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3CBB-8394-4FB7-AEFC-D6F3721C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6C70-0666-4983-AB75-C0E3DFF3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DE32-F38E-4C73-85FD-7658D5C9A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0AB0-583A-45D0-978F-F02535D0C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24C6-9145-43E7-8A53-E868E390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ABEA-6502-4051-8CDE-3042FAB3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925C-6633-4397-8BA9-38C7C72C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1BC1-18D2-4B18-99FF-B9C96A79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39E9-F4B6-41DD-9A34-B4B3F4C4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632E-AC92-4F6B-852F-9CFD99CE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A5C6-E4C5-4BA8-9800-022F7A8D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9C50-78D6-40BB-92DD-92528E21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32BD-7482-4F35-8342-B06AEB81B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59280" y="979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59280" y="1771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R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2560" y="50115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GUIA DESPACH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2563920"/>
            <a:ext cx="216036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RIMIR Y ENVI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335592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PCION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rot="16200000">
            <a:off x="4031640" y="166356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4" idx="2"/>
            <a:endCxn id="45" idx="0"/>
          </p:cNvCxnSpPr>
          <p:nvPr/>
        </p:nvCxnSpPr>
        <p:spPr>
          <a:xfrm rot="16200000">
            <a:off x="4031280" y="32479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2" idx="2"/>
            <a:endCxn id="44" idx="0"/>
          </p:cNvCxnSpPr>
          <p:nvPr/>
        </p:nvCxnSpPr>
        <p:spPr>
          <a:xfrm rot="16200000">
            <a:off x="4031280" y="24559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3059280" y="5011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FACTUR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35640" y="50115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BOLETA HONORARIO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5" idx="2"/>
            <a:endCxn id="43" idx="0"/>
          </p:cNvCxnSpPr>
          <p:nvPr/>
        </p:nvCxnSpPr>
        <p:spPr>
          <a:xfrm rot="5400000">
            <a:off x="2411280" y="3283920"/>
            <a:ext cx="1079640" cy="23767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5" idx="2"/>
            <a:endCxn id="49" idx="0"/>
          </p:cNvCxnSpPr>
          <p:nvPr/>
        </p:nvCxnSpPr>
        <p:spPr>
          <a:xfrm rot="16200000">
            <a:off x="3599640" y="4471920"/>
            <a:ext cx="10796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50" idx="0"/>
          </p:cNvCxnSpPr>
          <p:nvPr/>
        </p:nvCxnSpPr>
        <p:spPr>
          <a:xfrm flipH="1" rot="16200000">
            <a:off x="4788000" y="3283560"/>
            <a:ext cx="1079640" cy="23770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1" idx="0"/>
          </p:cNvCxnSpPr>
          <p:nvPr/>
        </p:nvCxnSpPr>
        <p:spPr>
          <a:xfrm rot="5400000">
            <a:off x="3960000" y="799560"/>
            <a:ext cx="359640" cy="1440"/>
          </a:xfrm>
          <a:prstGeom prst="bentConnector3">
            <a:avLst>
              <a:gd name="adj1" fmla="val 181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059280" y="587700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 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35640" y="5877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LETA HONOR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9" idx="2"/>
            <a:endCxn id="55" idx="0"/>
          </p:cNvCxnSpPr>
          <p:nvPr/>
        </p:nvCxnSpPr>
        <p:spPr>
          <a:xfrm rot="16200000">
            <a:off x="3994920" y="573228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0" idx="2"/>
            <a:endCxn id="56" idx="0"/>
          </p:cNvCxnSpPr>
          <p:nvPr/>
        </p:nvCxnSpPr>
        <p:spPr>
          <a:xfrm rot="16200000">
            <a:off x="6371640" y="573228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6299280" y="371628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 RECEPCIÓ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ISTENCIAS VS DOCTOS X 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99280" y="2995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GRESO INVENTARI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TARJETA EXI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45" idx="3"/>
            <a:endCxn id="59" idx="1"/>
          </p:cNvCxnSpPr>
          <p:nvPr/>
        </p:nvCxnSpPr>
        <p:spPr>
          <a:xfrm>
            <a:off x="5219640" y="3643920"/>
            <a:ext cx="1080000" cy="36072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45" idx="3"/>
            <a:endCxn id="60" idx="1"/>
          </p:cNvCxnSpPr>
          <p:nvPr/>
        </p:nvCxnSpPr>
        <p:spPr>
          <a:xfrm flipV="1">
            <a:off x="5219640" y="3283560"/>
            <a:ext cx="1080000" cy="36072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682560" y="5877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UIAS 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43" idx="2"/>
            <a:endCxn id="63" idx="0"/>
          </p:cNvCxnSpPr>
          <p:nvPr/>
        </p:nvCxnSpPr>
        <p:spPr>
          <a:xfrm rot="16200000">
            <a:off x="1618560" y="573228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962520" y="4292640"/>
            <a:ext cx="360360" cy="36036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333360"/>
            <a:ext cx="2952720" cy="79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53737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59280" y="53737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35640" y="537372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00720" y="406404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00720" y="334476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476280"/>
            <a:ext cx="165564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979560"/>
            <a:ext cx="165564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5440" y="1206360"/>
            <a:ext cx="109440" cy="135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60280"/>
            <a:ext cx="1655640" cy="1443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MBOLOG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4-19T05:39:22Z</dcterms:modified>
  <cp:revision>19</cp:revision>
  <dc:subject/>
  <dc:title>Diapositiva 1</dc:title>
</cp:coreProperties>
</file>